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7639C-1A05-4C5C-AE38-01F4691B1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2A979-B7B3-4CF7-83C5-3877F36A0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16096-73C2-408B-BD5F-65D8C5823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7CA21-D11D-40DE-A2EF-BE00BAC21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9FC12-AAEE-450E-9DE9-64C9AE3F5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6CC75-88AE-4602-9618-9D6FFDD5B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44FFE-36DA-43E2-8BAD-D797193F5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09F5B-A7E6-40F1-A4A6-D195F75FC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E629-C4D3-4C97-A182-0D9609B4D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1E47-A513-46F7-A21A-C760B1E4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F47B-1662-4E66-8897-7DCE0D0D3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83BEA-1D9F-4FA4-82D7-35484E939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9BA8-E6F9-443C-87F8-F3EEE3FCB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 Modern Languages</a:t>
            </a:r>
            <a:br>
              <a:rPr sz="4400"/>
            </a:br>
            <a:r>
              <a:rPr b="0" lang="en-US" sz="4400" spc="-1" strike="noStrike">
                <a:solidFill>
                  <a:srgbClr val="000000"/>
                </a:solidFill>
                <a:latin typeface="Arial"/>
              </a:rPr>
              <a:t>Added Value Unit Top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villes frança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 Information</a:t>
            </a:r>
            <a:endParaRPr b="0" lang="en-US" sz="4400" spc="-1" strike="noStrike">
              <a:solidFill>
                <a:srgbClr val="000000"/>
              </a:solidFill>
              <a:latin typeface="Arial"/>
            </a:endParaRPr>
          </a:p>
        </p:txBody>
      </p:sp>
      <p:graphicFrame>
        <p:nvGraphicFramePr>
          <p:cNvPr id="44" name=""/>
          <p:cNvGraphicFramePr/>
          <p:nvPr/>
        </p:nvGraphicFramePr>
        <p:xfrm>
          <a:off x="457200" y="1600200"/>
          <a:ext cx="8229600" cy="5157720"/>
        </p:xfrm>
        <a:graphic>
          <a:graphicData uri="http://schemas.openxmlformats.org/drawingml/2006/table">
            <a:tbl>
              <a:tblPr/>
              <a:tblGrid>
                <a:gridCol w="8229600"/>
              </a:tblGrid>
              <a:tr h="517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is a mixture of colourful towns and cities which can vary greatly in many ways. All have their own identity and unique character. Each has their own land marks, monuments places to visit, nightlife, tourist attractions, foods, and tradition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owns are good to visit for different reasons. You are about to get to know a town very well and talk about it in French.</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ou will investigate..?</a:t>
            </a:r>
            <a:endParaRPr b="0" lang="en-US" sz="4400" spc="-1" strike="noStrike">
              <a:solidFill>
                <a:srgbClr val="000000"/>
              </a:solidFill>
              <a:latin typeface="Arial"/>
            </a:endParaRPr>
          </a:p>
        </p:txBody>
      </p:sp>
      <p:graphicFrame>
        <p:nvGraphicFramePr>
          <p:cNvPr id="46" name=""/>
          <p:cNvGraphicFramePr/>
          <p:nvPr/>
        </p:nvGraphicFramePr>
        <p:xfrm>
          <a:off x="457200" y="1600200"/>
          <a:ext cx="8229600" cy="4800240"/>
        </p:xfrm>
        <a:graphic>
          <a:graphicData uri="http://schemas.openxmlformats.org/drawingml/2006/table">
            <a:tbl>
              <a:tblPr/>
              <a:tblGrid>
                <a:gridCol w="8229600"/>
              </a:tblGrid>
              <a:tr h="240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acts … weather…. how many people live there …is it good for shopping… what attractions does the town offer… does it have any typical food or drink …is sport important in that town… what industry does it have… what is there to visi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39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Languages are spoken…are there any fascinating facts about the town…does it have a special festival….what industries does it ha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oice is you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will your teacher help?</a:t>
            </a:r>
            <a:endParaRPr b="0" lang="en-US" sz="4400" spc="-1" strike="noStrike">
              <a:solidFill>
                <a:srgbClr val="000000"/>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8229240"/>
              </a:tblGrid>
              <a:tr h="45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Your teacher will show you a power point of the different cities to help you choose which one. …You will be given some written info on the towns and you can gather facts from this to use in your presentation…Your teacher will show you an example of a good presentation on a city …You can listen to info on cities and gather info….Your teacher will help you to organise and plan your research.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ities you can select to investigate for your presentation are…</a:t>
            </a:r>
            <a:endParaRPr b="0" lang="en-US" sz="4000" spc="-1" strike="noStrike">
              <a:solidFill>
                <a:srgbClr val="000000"/>
              </a:solidFill>
              <a:latin typeface="Arial"/>
            </a:endParaRPr>
          </a:p>
        </p:txBody>
      </p:sp>
      <p:graphicFrame>
        <p:nvGraphicFramePr>
          <p:cNvPr id="50" name=""/>
          <p:cNvGraphicFramePr/>
          <p:nvPr/>
        </p:nvGraphicFramePr>
        <p:xfrm>
          <a:off x="380880" y="2133720"/>
          <a:ext cx="8229600" cy="3557520"/>
        </p:xfrm>
        <a:graphic>
          <a:graphicData uri="http://schemas.openxmlformats.org/drawingml/2006/table">
            <a:tbl>
              <a:tblPr/>
              <a:tblGrid>
                <a:gridCol w="4114800"/>
                <a:gridCol w="4114800"/>
              </a:tblGrid>
              <a:tr h="1295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a:t>
                      </a:r>
                      <a:r>
                        <a:rPr b="0" lang="en-GB" sz="2800" spc="-1" strike="noStrike">
                          <a:solidFill>
                            <a:srgbClr val="000000"/>
                          </a:solidFill>
                          <a:latin typeface="Arial"/>
                          <a:ea typeface="ＭＳ Ｐゴシック"/>
                        </a:rPr>
                        <a:t>e</a:t>
                      </a:r>
                      <a:r>
                        <a:rPr b="0" lang="en-GB" sz="2800" spc="-1" strike="noStrike">
                          <a:solidFill>
                            <a:srgbClr val="000000"/>
                          </a:solidFill>
                          <a:latin typeface="Arial"/>
                        </a:rPr>
                        <a:t>n</a:t>
                      </a:r>
                      <a:r>
                        <a:rPr b="0" lang="en-GB" sz="2800" spc="-1" strike="noStrike">
                          <a:solidFill>
                            <a:srgbClr val="000000"/>
                          </a:solidFill>
                          <a:latin typeface="Arial"/>
                          <a:ea typeface="ＭＳ Ｐゴシック"/>
                        </a:rPr>
                        <a:t>è</a:t>
                      </a:r>
                      <a:r>
                        <a:rPr b="0" lang="en-GB" sz="2800" spc="-1" strike="noStrike">
                          <a:solidFill>
                            <a:srgbClr val="000000"/>
                          </a:solidFill>
                          <a:latin typeface="Arial"/>
                        </a:rPr>
                        <a:t>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pelli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y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seil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xel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started</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7848720" cy="4267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support materials issued by your teacher to take notes and start your research.</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timeline to guide you through your projec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a visual with all your information on it to use as a basis for your presenta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ady to Speak on the town for 1/2 minut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teacher will also ask you a couple of questions after your presentation…see if you can understand these and try to reply.</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caroline</cp:lastModifiedBy>
  <cp:lastPrinted>2013-03-14T12:56:40Z</cp:lastPrinted>
  <dcterms:modified xsi:type="dcterms:W3CDTF">2013-04-17T09:29:5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